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69948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1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ftr" idx="2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 type="sldNum" idx="3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7399-5A48-455C-A52E-7FD045EF706F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2371-FC5B-423F-AD5D-8D8DD46BFD70}" type="slidenum"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21320" cy="34653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2040" y="4406760"/>
            <a:ext cx="513072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25400" y="3792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08080" y="1643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25400" y="3792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08080" y="3792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3400" y="1643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81040" y="1643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725400" y="3792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3400" y="3792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81040" y="3792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8080" y="1643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060560" y="288720"/>
            <a:ext cx="703728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8080" y="1643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5400" y="3792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8080" y="1643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08080" y="3792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08080" y="1643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25400" y="3792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93760" y="6380280"/>
            <a:ext cx="856440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930240" y="5502240"/>
            <a:ext cx="2034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049400" y="187200"/>
            <a:ext cx="7308720" cy="1238400"/>
            <a:chOff x="1049400" y="187200"/>
            <a:chExt cx="7308720" cy="1238400"/>
          </a:xfrm>
        </p:grpSpPr>
        <p:graphicFrame>
          <p:nvGraphicFramePr>
            <p:cNvPr id="4" name=""/>
            <p:cNvGraphicFramePr/>
            <p:nvPr/>
          </p:nvGraphicFramePr>
          <p:xfrm>
            <a:off x="1120680" y="187200"/>
            <a:ext cx="7237440" cy="123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20680" y="187200"/>
                      <a:ext cx="7237440" cy="123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" name=""/>
            <p:cNvSpPr/>
            <p:nvPr/>
          </p:nvSpPr>
          <p:spPr>
            <a:xfrm>
              <a:off x="1049400" y="285480"/>
              <a:ext cx="7054920" cy="897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284040" y="6319800"/>
          <a:ext cx="8599680" cy="476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4040" y="6319800"/>
                    <a:ext cx="859968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"/>
          <p:cNvSpPr/>
          <p:nvPr/>
        </p:nvSpPr>
        <p:spPr>
          <a:xfrm>
            <a:off x="271440" y="6356520"/>
            <a:ext cx="8572680" cy="23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5031360" y="6362640"/>
            <a:ext cx="378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Noncommissioned Officer Cour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31840" y="6324480"/>
            <a:ext cx="31273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247680" y="6324480"/>
            <a:ext cx="2171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400/OCT 04/VGT-</a:t>
            </a:r>
            <a:fld id="{FF37C888-49BB-4221-BEBB-FE76B4C2361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600960" y="5943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CA2AS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Ethical Reason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SELFLESS SERVICE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5400" y="2427120"/>
            <a:ext cx="7772400" cy="33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 do what’s right for the nation, the Army, your organization, and your people --and to put these responsibilities above your own inte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SELFLESS SERVICE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who demonstrate selfless serv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the welfare of the nation, the Army, and subordinates before their 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 team mora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subordinates’ hardshi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credit for success to others and accept responsibility for failure themsel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HONOR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06440" y="2543040"/>
            <a:ext cx="719136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 put Army values abov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interest, career, comfort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elf-preserv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HONOR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51080" y="2209680"/>
            <a:ext cx="71467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who demonstrate hon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 up to Arm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lie, cheat, steal, or tolerate those actions by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INTEGRITY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3080" y="2064960"/>
            <a:ext cx="752472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what’s right from what’s wr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act according to what you know is right, even at personal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openly that you’re acting on your understanding of right versus wr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INTEGRITY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who demonstrate integ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what is right legally and mor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 high personal moral standa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honest in word and d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consistently good moral judgment and behav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 being right ahead of being popu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PERSONAL COURAGE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 demonstrate both physical and moral cour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courage means overcoming fears of bodily harm and doing your du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al courage means the willingness to stand firm on your values, principles, and convictions even when threat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PERSONAL COURAGE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5400" y="207792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 who demonstrate personal cour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physical and moral bra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responsibility for decisions and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 responsibility for mistakes and shortcom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Ethical Reasoning Process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60280" y="2165400"/>
            <a:ext cx="7306920" cy="40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the relevant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nd evaluate courses of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the course of action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represents Army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181480" y="3962520"/>
            <a:ext cx="1219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0560" y="307800"/>
            <a:ext cx="70372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Define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1741320"/>
            <a:ext cx="332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4200" y="1555920"/>
            <a:ext cx="771336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7720" y="1563840"/>
            <a:ext cx="771372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39880" y="1947600"/>
            <a:ext cx="6843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common solu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le meal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 serv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erving l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ing soldiers to eat fa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Importance of Ethical Reasoning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1240" y="2413080"/>
            <a:ext cx="7715520" cy="37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To fulfill your du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maintain your integrit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and serve honorabl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Rounded MT Bold"/>
              </a:rPr>
              <a:t>you must be able to reason ethicall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-- FM 22-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Define the problem 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725400" y="1643040"/>
          <a:ext cx="7772400" cy="3657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 SOLUTION I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 PROBLEM MUST B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le meal h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 many soldiers coming to eat at the same tim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ster serve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ervers are too slo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serving li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enough serving lin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ing soldiers to eat fas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oldiers are not eating fast enough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Know the relevant rules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25400" y="158400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9440" y="2484360"/>
            <a:ext cx="3009600" cy="35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200" y="1555920"/>
            <a:ext cx="7713360" cy="46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Evaluate Courses of Action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6400" y="1643040"/>
            <a:ext cx="813600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he consequences of your courses of action (COA) by ask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OA best upholds Army val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any of the COA compromise Army valu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any COA violate a law, regulation, or ord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COA is in the best interest of the Army and of the n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Choose the course of action that best represents Army values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25400" y="2484000"/>
            <a:ext cx="777240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n Army leader, you’re expected--by your bosses and your people--to make decisions that solve problems without violating Army valu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43280" y="1584360"/>
            <a:ext cx="35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les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cou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LOYALTY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075040" y="2192040"/>
            <a:ext cx="5246640" cy="36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 be faithful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my--the institution and its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unit or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LOYALTY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ers who demonstrate loyal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ar true faith and allegiance in the correct order to the Constitution, the Army, and the organiz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serve higher headquarters’ prior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 within the system without manipulating it for personal gai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DUTY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5400" y="2935440"/>
            <a:ext cx="7772400" cy="28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 do your work not just to the minimum standard but to the very best of your abi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DUTY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54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ers who demonstrate devotion to dut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ulfill obligations--professional, legal, and mor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rry out mission requiremen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 professional standard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t the examp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y with policies and directiv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ally pursue excelle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28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RESPECT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5400" y="2921040"/>
            <a:ext cx="777240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ligation to recognize and appreciate the inherent dignity and worth of all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0560" y="288720"/>
            <a:ext cx="70372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 Rounded MT Bold"/>
              </a:rPr>
              <a:t>Army Values</a:t>
            </a:r>
            <a:br>
              <a:rPr sz="2800"/>
            </a:br>
            <a:r>
              <a:rPr b="1" i="1" lang="en-US" sz="3200" spc="-1" strike="noStrike">
                <a:solidFill>
                  <a:srgbClr val="000000"/>
                </a:solidFill>
                <a:latin typeface="Arial Rounded MT Bold"/>
              </a:rPr>
              <a:t>RESPECT </a:t>
            </a:r>
            <a:r>
              <a:rPr b="0" i="1" lang="en-US" sz="3200" spc="-1" strike="noStrike">
                <a:solidFill>
                  <a:srgbClr val="000000"/>
                </a:solidFill>
                <a:latin typeface="Arial Rounded MT Bold"/>
              </a:rPr>
              <a:t>(cont)</a:t>
            </a:r>
            <a:endParaRPr b="0" i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8240" y="1555560"/>
            <a:ext cx="770112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ers who demonstrate respec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 people as they should be treat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a climate of fairness and equal opportun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discreet and tactful when correcting or questioning offic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 concern for and make an effort to check on the safety and well-being of ot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courteou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take advantage of positions of authorit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16:02:35Z</dcterms:created>
  <dc:creator>Darbyd</dc:creator>
  <dc:description/>
  <dc:language>en-US</dc:language>
  <cp:lastModifiedBy>Administrator</cp:lastModifiedBy>
  <cp:lastPrinted>2003-06-02T20:59:44Z</cp:lastPrinted>
  <dcterms:modified xsi:type="dcterms:W3CDTF">2005-07-08T11:38:02Z</dcterms:modified>
  <cp:revision>40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26114143</vt:r8>
  </property>
  <property fmtid="{D5CDD505-2E9C-101B-9397-08002B2CF9AE}" pid="3" name="_AuthorEmail">
    <vt:lpwstr>Johnnie.Dills@emh10.bliss.army.mil</vt:lpwstr>
  </property>
  <property fmtid="{D5CDD505-2E9C-101B-9397-08002B2CF9AE}" pid="4" name="_AuthorEmailDisplayName">
    <vt:lpwstr>Dills, Johnnie, S.</vt:lpwstr>
  </property>
  <property fmtid="{D5CDD505-2E9C-101B-9397-08002B2CF9AE}" pid="5" name="_EmailSubject">
    <vt:lpwstr>FW: This Lesson is for ANCOC PHase 2</vt:lpwstr>
  </property>
  <property fmtid="{D5CDD505-2E9C-101B-9397-08002B2CF9AE}" pid="6" name="_PreviousAdHocReviewCycleID">
    <vt:r8>-1362824335</vt:r8>
  </property>
  <property fmtid="{D5CDD505-2E9C-101B-9397-08002B2CF9AE}" pid="7" name="_ReviewingToolsShownOnce">
    <vt:lpwstr/>
  </property>
</Properties>
</file>